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9B5-E918-409C-9640-AD00A781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542-6CF5-4A8D-B52A-4DCF242D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E5B-2B69-4B0C-AEA8-87027F1C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362-A54E-4E4F-90D9-AF049CB7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4902-CAEF-4411-9C4B-7B2E1D41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CC98-1AB7-477B-9B39-20AA39A9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D07D-9206-4C8A-A87F-9063A3AB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262B-9856-46F4-AF20-F06DACDE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E5EB-5916-49BD-A663-D781E56C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4526-A2C5-4A35-BFF0-E2270431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2425-5FBB-4DF1-9335-B196EFA3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A01-9DEE-4197-B8AA-5948D506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E0DD-0795-4CB9-B332-95A7CEE8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4B0B-0154-4B1A-82DC-96FA9709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0F2D-9C42-434B-A0D9-B30147FD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0C60-AC60-4163-9C89-368B7E84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72A9-A0F8-4B32-8B23-5072742A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E416D-9587-4598-B3AC-A9A3B423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4A40E-076E-4791-AD23-625D6BF7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0D7A6-F87E-459F-9863-B2914A10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60E97-56CB-4915-96EE-392578E5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D7914-C7C8-4997-98EF-B62E948F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851-792A-4DDD-9893-D48A2682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CAC43-E47D-4BD8-A71C-71E7115B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D327-86E3-4377-BAA3-C39DB110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9C5E-A3F1-412C-A65A-6D7A05C3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65B45-13AC-47A1-9994-492D275D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615C5-780F-4215-A1C1-2E31B1E3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8BA6-2663-4623-83D7-91C7D38A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F9BB-E226-46C2-A80B-EC95E6BA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63868-EEB8-428A-A060-0F8A8AEE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D0F14-4223-4A5A-8CD7-B70CE9C4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666DD-D32A-4D9D-933D-76F28639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C57-25F7-46BA-8387-A3065EC4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A94E-40D5-439A-85F0-65B88A17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AC16F-94E1-4B60-B1B2-C36CA98D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F9B5F-FDBC-44FC-8E62-06D9C100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7EF9A-E7F9-4199-8048-3CD7F27B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0C055-CC23-4342-8DA7-4A724532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E84DC-4527-489E-B043-B0F6468E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862C0-C4B5-4F8F-99DE-D41D1D07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E1413-AF66-4171-A5D6-DFFFA075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CB22B-FFDA-4D4E-B53D-BD158268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C9922-3BB5-40B4-8672-EDD96781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C51-C1B3-47C8-9328-CB70589D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AF38E-B0B2-4D39-8DDE-842AB4E5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48ECD-E5A1-41D7-B639-DE362B3E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8CE64-152A-488E-B525-51C09D4E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8A0E6-0E8D-4D45-9E0E-6AE817EC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A5FAB-F08D-4022-9282-0EA06F38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59ECC-342E-4DDA-B761-A8BF2CB1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E323B-BB86-4CD8-B8F5-83EF2508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3844F-C5DD-4990-9761-C84AC89F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F66F1-C7AE-41DD-B91E-3DBD9C0B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4F399-1FE0-4C14-B4EA-392D9C09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8F1-E76A-47E0-8E5F-9374FC87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32CD5-627E-4DB9-98AF-A7D2EE72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922F8-3FB4-4914-8522-748C8147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A78E4-F3A3-4F95-A6EA-2BBD1DDF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C6368-7B19-4D96-94FC-BB24543F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19EB0-F7C1-41D9-8FF6-B36B52BA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F6526-CC8C-472D-99CF-A41F8829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07EF8-75DE-4772-9C0E-B44E1E1D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73E6F-67C0-4572-9ACA-4B229992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68110-0C9C-4283-9B43-B262AFCB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10ADF-C07B-4FD9-81F5-012E8C34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474-B7EF-4EBF-89CF-36E194B1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C8998-F051-48F0-A212-BE080144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24FD2-96FF-434E-B8E5-035C5565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B2E38-F376-4BF7-839F-59D91099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4DDF3-43E6-46C9-9508-504BDA84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FBFF5-2175-41D2-8E23-4F5556D0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05294-AE34-4D5C-88C7-43BBDB5B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D97CB-0328-4046-86BB-F84A6DCC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732ED-236A-47B6-A4F3-1E9DD48C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B0D9F-016C-4F74-8B8B-808C65E1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BD979-6DF1-4BDF-9B66-A48536D7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975-1B23-4E29-B94C-E63ABF64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03895-1DD7-4ED2-BEB9-A7442E99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100AF-43D7-4B91-826E-2A1AF0E8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8FDE6-CD44-4057-85DB-160B1985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4EDB2-5540-40BD-8128-518BE7A4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DED09-193F-49F7-AC18-15362941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EA1-1C21-4481-9A34-00001381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45FE-26C5-481C-B239-CF5F6724FF0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8B31-E027-4320-AC73-591C660AB39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C74F-BC5A-45EF-ACD9-266CA0B971A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5DDB-8737-4F32-A52D-2E68C87E501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8CE9-F481-4153-AAD9-0EF8B009359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2A5B-F73C-4E76-BAA9-1F1C0DD22DD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1956-218B-492E-A0AD-662A7DEF16F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y: Octoberia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6" name="Content Placeholder 3" descr="HO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MUNIT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9" name="Content Placeholder 3" descr="COMMUNITIE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1" name="Content Placeholder 3" descr="COMMUNITITES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CHOO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2" name="Content Placeholder 3" descr="CLASSROOM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4" name="Content Placeholder 3" descr="CLASSROOM5.jpg"/>
          <p:cNvPicPr/>
          <p:nvPr/>
        </p:nvPicPr>
        <p:blipFill>
          <a:blip r:embed="rId1"/>
          <a:stretch/>
        </p:blipFill>
        <p:spPr>
          <a:xfrm>
            <a:off x="0" y="0"/>
            <a:ext cx="6730920" cy="4203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LASSROOM4.jpg"/>
          <p:cNvPicPr/>
          <p:nvPr/>
        </p:nvPicPr>
        <p:blipFill>
          <a:blip r:embed="rId2"/>
          <a:stretch/>
        </p:blipFill>
        <p:spPr>
          <a:xfrm>
            <a:off x="5651640" y="3213000"/>
            <a:ext cx="3492360" cy="3645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CLASSROOM1.jpg"/>
          <p:cNvPicPr/>
          <p:nvPr/>
        </p:nvPicPr>
        <p:blipFill>
          <a:blip r:embed="rId3"/>
          <a:stretch/>
        </p:blipFill>
        <p:spPr>
          <a:xfrm>
            <a:off x="0" y="3357720"/>
            <a:ext cx="5715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ORKPLA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WORKPLACE2.jpg"/>
          <p:cNvPicPr/>
          <p:nvPr/>
        </p:nvPicPr>
        <p:blipFill>
          <a:blip r:embed="rId1"/>
          <a:stretch/>
        </p:blipFill>
        <p:spPr>
          <a:xfrm>
            <a:off x="4572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1" name="Content Placeholder 3" descr="WORKPLACE1.jpg"/>
          <p:cNvPicPr/>
          <p:nvPr/>
        </p:nvPicPr>
        <p:blipFill>
          <a:blip r:embed="rId1"/>
          <a:stretch/>
        </p:blipFill>
        <p:spPr>
          <a:xfrm>
            <a:off x="349200" y="1523880"/>
            <a:ext cx="8791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M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4" name="Content Placeholder 3" descr="HOME4.jpg"/>
          <p:cNvPicPr/>
          <p:nvPr/>
        </p:nvPicPr>
        <p:blipFill>
          <a:blip r:embed="rId1"/>
          <a:stretch/>
        </p:blipFill>
        <p:spPr>
          <a:xfrm>
            <a:off x="163440" y="0"/>
            <a:ext cx="898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5:03:16Z</dcterms:created>
  <dc:creator>Imperialdramon</dc:creator>
  <dc:description/>
  <dc:language>en-US</dc:language>
  <cp:lastModifiedBy>Student</cp:lastModifiedBy>
  <dcterms:modified xsi:type="dcterms:W3CDTF">2012-07-12T00:49:07Z</dcterms:modified>
  <cp:revision>2</cp:revision>
  <dc:subject/>
  <dc:title>Dehumanization</dc:title>
</cp:coreProperties>
</file>